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118-CAF9-4F66-A1C9-5B9562D8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5E6-772A-4203-8541-59C5FCB7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5BD-1840-471F-920E-CCBC4A26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31E-FD07-4783-934B-5C37349D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269-0FA9-4995-9030-2058EFA8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0AF-A388-40F3-BF6B-39132BF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92E-758F-46FB-BFE0-560E829A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147-A152-4A84-BD4D-42C94E80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11D-D6DA-4BAF-9019-8EBB63E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769-3A7B-4D61-88E5-2EE9394F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DB4-D065-4BEE-A936-6433466B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613-EE93-4B4E-8173-E0DA6C2B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DC96-8CE4-4675-BD5D-72BEE9935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9:59:05Z</dcterms:created>
  <dc:creator>Underwood School</dc:creator>
  <dc:description/>
  <dc:language>en-US</dc:language>
  <cp:lastModifiedBy>Underwood Community Schools</cp:lastModifiedBy>
  <dcterms:modified xsi:type="dcterms:W3CDTF">2005-12-06T20:13:01Z</dcterms:modified>
  <cp:revision>2</cp:revision>
  <dc:subject/>
  <dc:title>PowerPoint Presentation</dc:title>
</cp:coreProperties>
</file>